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2A9-C63C-457D-A80B-06FB88C5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E3D-4198-4F24-8168-E9D2D33B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462FC-9C4E-4558-8983-EE63F94E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2B5C5-7F25-4363-91B9-D9848B4E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371E8-D17F-461E-8F47-B44ED237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B3EF2-2C1E-4A39-B1B5-9E18639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EE987-A202-4A38-917B-FF543444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0DBF4-24AF-4BF7-83B8-78E45AC8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DE28F-3826-4765-B923-62983409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CFBD1-DF7F-42DE-BAE4-E39923ED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083E2-489E-4B3E-8D15-B94A2BDA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FE90D-0192-48D2-9D82-8398A3B5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7C2-4CCB-48F4-ACD4-8559C3C9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9974A-C7E6-4DF5-A01D-E20175BD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9E80F-DE2C-4BA5-9D61-5349BF31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8A87A-7423-487C-AAA4-F24313F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40613-A7F9-4B68-9EB5-929E136F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5D1F1-06DA-4E47-810A-7715C76F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5AFB4-7B71-449A-B270-E78AD5EF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AC605-01DC-428F-8C6B-18CDD00C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D373F-00CA-4268-9888-2D42D1C4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7A7C8-53F9-4545-A58E-28ED7F3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3CAB0-4FE5-426C-B3A7-9D1B55AA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BD3-004E-4001-8857-A9940823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936B3-6BDC-4459-8142-D8DA2121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48F70-04A9-4023-A5A4-04DDE02F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BC88A-A3F6-4A23-97CD-A5EAF684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57892-6CA2-44CF-BF86-5D9C613B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4B0BD-758B-430F-837A-A89B7354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D6351-3983-46CF-A0F7-D7C3E5AA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E8157-8CD7-46F8-9C69-506AD0ED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21E1E-971E-4813-8D5E-A6E6E8B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B52DD-C404-4316-9C40-6ACA6A4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BB04C-5CEC-4116-BA08-10DC9472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3CAC-8EE9-42BC-8BFF-059ED2A6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0DB3A-C131-43D3-9265-91E6D254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DF0E8-981F-4172-B19F-10EA7FAE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96165-DBA0-4ABA-8E3C-25DB9443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798B6-DB05-4AD3-A37E-62FC4858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76A1D-819F-44BC-8D45-B7E55A26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3D22F-09F2-4C07-BD5A-1319319E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E23E3-5840-4440-AC2F-14C6F6B6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56581-32C0-4B67-B5E0-8773E376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B09EE-F1A8-4609-842B-F2900DE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0CC08-DAC6-4356-A3CA-FA786F04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AAD3-592A-42F8-8F0A-206F3CA4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CFA86-5DFB-4B6E-AE02-DFAFD27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740F8-9FAA-4366-8AFA-D66307B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41C5-DFDA-4F6B-A5E0-66A96858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9ED87-2D8A-4631-A5A7-88923C8D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CD11-B56B-44A9-881D-4D84404A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28EE-DC36-448D-B4C9-0C9259D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78DF-40EE-4D9A-9CF3-CC94FA39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68C-C15F-41BE-AB89-DCFCCD55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E70C-C94D-4D6F-93D5-6F06D5E2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E0DF-80AD-4F55-BC19-D6BFDCF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6FD-3184-4E20-A31C-C2985DEA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0953-425D-4B0B-A0D9-8FA5604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47BA-EBE3-4BEC-AAE9-8E5F40A2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6E16-B4C9-420A-BA66-05821F9B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BD70-4AA2-40DC-97C2-56FAE527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279C-755F-42A0-A02D-81C42BDA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56BA-4C80-4A35-93CA-5831E0E8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18CB-5B6C-4EFF-A76F-DBE4477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1CA8-AF35-4FE8-ABE3-B76905F6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0325-951D-4E80-8176-AF39CFE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4445-74BD-4866-AD8F-A2047CE1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533-9DBC-4442-8CFC-4BE193A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385C-DB16-4A59-8D86-71C77998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3C4C-0EEC-4E65-B4BD-34099C0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0054-2695-4DE7-95ED-4275DF95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FB55-8568-4AD5-9EE7-10E7BF3A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1240-A6B2-46CE-BCB6-23E3DEEC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24D2-8DE0-46DB-80C1-DB1B7356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88E0-22E8-4158-8067-5759E9C6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332A-52BD-4561-9F48-677F6ACE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BEF1-F3F5-4D8C-AA64-355084C9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6D80-14B2-473B-9D0D-97BE26D0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F30-E087-4864-BD94-68184A3F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FB232-A495-4F08-BA7B-AB225AD8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D171-A692-4858-9998-1CC20F76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D079E-5AE5-4929-920B-F986F9D2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AC53-F0DD-45EF-981F-2970288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0DA7-33B6-4CD9-9A36-A30D2389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27FC-56C7-448B-841E-15B7B14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1741A-0DFA-4E25-AB55-95466757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B8EE-156D-4C3B-B06F-CE7DE35F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28B1-FEF4-4F18-992B-1B0E2432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EAD98-97DA-461C-9A6C-5BE10D92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F92-D456-4DA0-88D6-305DDCB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F7A5-A5BC-4BA8-8737-C1A31290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9832-EABA-4457-82F5-1359B2A0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C0668-4A08-470C-9209-D13B5CBC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4C83-A5EB-40F0-89EC-73AC5EEF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D8B1-B2D8-4481-9F46-5401200D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3CCA-7F7D-495B-B5F0-8051ABB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F9AD-1398-491B-9684-9BF5A70C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F61E6-93CA-4DA9-9D0A-6864BE3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D3C01-DD56-49CC-80EC-DC8482CD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1496A-6310-4B4E-8A9F-72D3D2A3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0FE-B2E6-4B4C-B886-748567EE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E156A-3542-447C-8DBA-BD874017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B3F0-DEFA-4682-B526-98B3FD81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1E613-9C4E-4A76-BA5B-771757A7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86FD8-64A3-436B-8DF0-C501CC6A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ECA5D-1A75-45EF-9E31-CD28AC5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0E458-D1B0-4263-8833-5C47F26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42D4-03F8-46E7-9AA1-E464054B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4ECC4-010A-4D20-A7A2-C762997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D911-3D08-427B-A170-C23C390E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B5B8F-BF44-438F-8455-631ED920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345-4120-4F36-8845-D681BB6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C950F-9A83-426D-922B-235C5A5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979A-C9BB-4149-B920-1413645D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C553-1B02-4DEA-8968-233CE9BC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4A72-A3B1-4704-A5D6-3E302951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53A9E-1FE6-41D3-9D7D-115AFE5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7917D-183F-49BA-8B9D-27E6559B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E6C34-1885-4135-BD1E-F9AC1B1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697D8-3291-48DE-9468-D4E10C2F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125C6-CA3F-46AA-AC26-1DA34B05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962FE-1964-4D88-9EDE-F01E21B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236-1111-489B-8F33-B70BDCE9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12BB-5550-4FAC-ABDC-06CD9D6F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008F2-206B-49C3-BC06-B439DD9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96A3D-2F72-48E4-9CFA-DA921101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1B87-ED6C-4DD9-81E1-BBB90FA0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1608-7FB0-4332-8137-4BBDA157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A798F-F1E8-4E81-804C-59A1B2A3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1C81C-C0CE-4DD4-8732-BD32E0BC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0589B-3892-4A19-B0D6-D5A450BE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855D0-DD4B-460F-B854-C9D2BF49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8C585-967B-4B2A-86AD-A884CE7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FB7-B172-4FD7-AE76-E941687F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DAFF-9A48-419D-83B9-84C5144F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7118D-2C46-4CFD-9E44-2CB7ADA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8155E-3179-43C7-BEE5-E4D34A5F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6C6CA-5D44-4AE3-AAD2-0E0DEAEC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8C0D2-31E4-4EB6-B754-D415A3B2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E3D99-4FCA-4CDF-84CA-3A41D0F7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1A63D-77CE-43EF-AFBA-F447C2ED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53233-3945-43BA-8816-D1A06EFF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32B56-CA3E-42A1-9531-DD6A7E9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B90A1-505C-413D-BAF9-CE00878E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3A7C-0517-454A-B8CC-4E216E97ED8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301B-32D5-4917-B171-B6607321F1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B46F-1F48-4071-A838-44309F1F0D7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22A3-F614-4702-A636-9F7BE48EF0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6792-B633-44C3-BA40-F8B1D5A6EC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E7B-DA57-4B8B-BD76-649CEA14640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F7B-3271-4ACE-8398-68CEFF4E8A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ED94-8B74-4F09-9743-8A39793974A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0E3D-C253-48E8-B7B5-15692C8166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799-C213-4C77-87AC-7563F71AD7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C7F-1620-4B35-9BE3-882D8E81111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2D39-3B1F-4C5A-9D6E-1257019D99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2 Pán Ježiš stále k sebe z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stále k sebe z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ch, čo sú znaven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odpočinok, pokoj d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sť v blaho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kajúceho hriešnik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ľúdne prijí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ničoho sa neboj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srdci radosť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úka ľahké bremen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jarmo osož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 lásky vodu živo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všetkým ochot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š prístup k tomu prameň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ktorý si zran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šetky rany zahoj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j vráti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všetkým hovorí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svetlo sveta som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blúdiš, vráť s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ňa hľaď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hoď vždy v svetle to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Už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nechcem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blúdiť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temnotách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7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ďalej kráčať s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cieľ svoj iste dosiahn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ár jeho uvidí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9:13:58Z</dcterms:modified>
  <cp:revision>21</cp:revision>
  <dc:subject/>
  <dc:title>Je veľký náš Pán, on slávy je Kráľ Nech do všetkých strán  spev vrúcnych znie chvál.</dc:title>
</cp:coreProperties>
</file>